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2CF-2810-48C5-A127-81FE5CA903C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50E4-6026-49A5-BA7A-48D50C154D6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527-AFC8-4479-A771-C520E0F6A52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570-DB16-4090-BC01-510A6C1C2EE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56B-EB1E-4061-815D-E42F62526DC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0A7-E5AA-485C-97E2-5143DE73A96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BC4-0D44-4328-AD00-12EA76FA859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6A20-B6F7-4502-B60F-B8796A4AC32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47A0-72C1-4323-A23B-4C366BD5100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68D-246E-4528-9CF2-504D78B45D6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0BE0-3DB2-49FB-8318-A1EAF6F04C5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D1D-2116-4100-8149-DAA7EFAE9FA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70F-C986-4EFA-97B9-380783F0F83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728-7865-4707-AC0E-2877B1DAD29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6B7-7893-45B3-92AF-96D64DE6145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646-3CFD-47C3-A5CD-4B721F1FE56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033C-0CE7-4DB5-A532-1753ADE3065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B08-261C-459A-8357-AC696264573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E16-8A89-42A7-9135-243E8C6067B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95F3-ACCF-499F-80CE-5A13B5EFFF2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6DEC-F964-4481-871B-6AED4BEFCDF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807-7B70-445F-B302-12E8185A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2BE-7CBC-4D87-8648-840058B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82D-8070-4FD6-ACAB-53AD1AE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10C-5D5B-42CF-97AA-3997419D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465-83ED-4668-8EAF-5CB053E5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B0E-800E-4800-AEEB-932A746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691-5198-4346-A64B-9BFD912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3AB-4B08-49DF-BE37-9F00893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988-5EDB-4EEB-89C3-4BD73AD6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DB1-C8DD-46C8-9F56-0C64D85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C62-61D1-417E-99BC-C6DAA77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005-8AFC-4D14-802C-831164E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3C74-E6F1-4871-8D21-5739C22C935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αναιμία που προκαλείται από έλλειψη σιδήρου στον οργανισμό, εξαιτίας της οποίας επέρχεται διαταραχή στη σύνθεση της αιμοσφαιρίν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συχνότερη διατροφική διαταραχή, με συχνή εμφάνιση στις αναπτυγμένες χώρε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α βρέφη και τα παιδιά στις ΗΠΑ φτάνει το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ις ηλικίες 16-19 ετών φτάνει το 1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60280"/>
          <a:ext cx="8893080" cy="6232680"/>
        </p:xfrm>
        <a:graphic>
          <a:graphicData uri="http://schemas.openxmlformats.org/drawingml/2006/table">
            <a:tbl>
              <a:tblPr/>
              <a:tblGrid>
                <a:gridCol w="3268440"/>
                <a:gridCol w="5624640"/>
              </a:tblGrid>
              <a:tr h="5486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ΙΤΙΑ ΣΙΔΗΡΟΠΕΝΙΑ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ρόσληψ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Υποσιτ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Χορτοφαγ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ακρόχρονη νηστε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απορρόφη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χλωρυδρία (από φάρμακα ή γαστρίτιδ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ίωση περιοχής απορρόφησης (εγχειρήσεις, παθήσεις εντέρο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Β</a:t>
                      </a:r>
                      <a:r>
                        <a:rPr b="1" lang="el-GR" sz="2000" spc="-1" strike="noStrike" baseline="-25000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φυλικού οξέ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ενδογενούς παράγ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ες ανάγκ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Παιδιά, έφηβ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Κύ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Θηλα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6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απώλε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Έμμηνος ρ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γαστρεντερικού (φάρμακα, πολύποδες, φλεγμονώδεις νόσοι,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εντέρου, έλμινθες, κλ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ουροποιητικο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ΞΕΛΙΞ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1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λάττωση αποθεμάτων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φεριτ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2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ξάλειψη αποθεμάτ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κορεσμού τρανσφερίνης &lt;1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Υπόχρωμα μικροκυτταρικά ερυθρά (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αιμοποίησης, ερυθροποίη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διάρκειας ζωής ερυθρώ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ισο-, ποικιλλο-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3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κσεσημασμένη υποχρω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ιδεινούμενη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επαρκής παραγωγή σιδηρούχων ενζύμων και πρωτεϊνώ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ΕΣ ΕΚΔΗΛΩΣΕΙ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Κακουχία, μείωση δύναμης και αντοχής, αίσθημα παλμών,  δυσπνοια, κεφαλαλγία, ωχρότητα,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ε παρατεταμένη σιδηροπενία, διαταραχές επιθηλιακών ιστών (νύχια, γωνιακή χειλίτιδα, στοματίτιδα, τριχόπτωση, ατροφική γαστρίτιδα, παγοφαγία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07560"/>
            <a:ext cx="85075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ριθμός ΔΕΚ φυσιολογικ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ρυθροκύτταρα μικρά και ωχρά (μικροκυττάρωση – ανισοκυττάρω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ος όγκος ερυθρών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MCV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η πυκνότητα αιμοσφαιρίνης (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H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ίδηρος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Φεριτίνη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ιδηροδεσμευτική ικανότητα τρανσφερίνης (ΤΙ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Σε βαρειά μορφή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ατοκρίτη – αιμοσφαιρ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Θρομβοκυττάρωση (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αιμοπεταλίω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2060"/>
                </a:solidFill>
                <a:uFillTx/>
                <a:latin typeface="Calibri"/>
              </a:rPr>
              <a:t>Στο μυελό των οστ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ύξηση ερυθρής σειράς με διαταραχή ωρίμαν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ποκατάσταση επιπέδων σιδήρου με χορήγηση σιδήρου από το στόμα ή παρεντερικά, ΑΦΟΥ ΠΡΟΗΓΟΥΜΕΝΩΣ ΑΠΟΚΛΕΙΣΘΕΙ ΤΟ ΕΝΔΕΧΟΜΕΝΟ ΑΙΜΟΡΡΑΓΙ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Προληπτική χορήγηση σε μερικές περιπτώσεις αύξησης αναγκών (κύηση, βρεφική ηλικία κλ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ίναι η αναιμία που συνοδεύει παθολογικές καταστάσεις οι οποίες χαρακτηρίζονται από οξεία ή χρόνια ανοσολογική διέγερσ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Λέγεται και «αναιμία της φλεγμονή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ΠΑΘΟΦΥΣΙΟΛΟΓΙΑ </a:t>
            </a:r>
            <a:br>
              <a:rPr sz="4000"/>
            </a:b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ΗΣ ΑΝΑΙΜΙΑΣ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ι εκδηλώσεις της αναιμίας οφείλονται σ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ομοιόστασης του σιδή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λάττωση διάρκειας ζωής ερυθρ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πολλαπλασιασμού προδρόμων κυττάρων της ερυθρής σειρά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στην παραγωγή και δράση της ερυθροποιητίν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ΟΡΙΣΜ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αιμία είναι η ελάττωση του αιματοκρίτη ή της αιμοσφαιρίνης ή του αριθμού των ερυθρών αιμοσφαιρίων σε επίπεδα κατώτερα τουλάχιστον κατά 10% της φυσιολογικής τιμής τους στον συγκεκριμένο πληθυσμ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ό μόνη της δεν είναι νόσος. Μπορεί να αποτελεί εκδήλωση μιας πολύ απλής και φυσιολογικής κατάστασης (π.χ. διατροφής χωρίς πολύ σίδερο) μέχρι μιας πολύ σοβαρής κατάστασης (π.χ. μετάστασης στα οστά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ΤΙΟΛΟΓ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Οξείες και χρόνιες λοιμώξεις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νευμόνων, ενδοκαρδίτιδα, οστεομυελίτιδα, μηνιγγίτιδα, ηπατίτιδες κλ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Χρόνια μη φλεγμονώδη νοσήματα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ρευματοειδής αρθρίτιδα, ρευματοειδής πυρετός, ερυθημετώδης λύκος, σαρκοείδωση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Κακοήθεις νόσοι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όγκοι, λεμφώματα, λευχαιμίες,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Άλλες καταστάσει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αλκοολική ηπατίτιδα, καρδιακή ανεπάρκεια, στεφανιαία νόσος, θρομβοφλεβίτιδ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Αριθμός ερυθρών:  Α:  4,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7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3,8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2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οσφαιρίνης: Α: 14-16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12-14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ατοκρίτη:      Α: 42% - 52% (μ.ο. 4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37% - 47% (μ.ο. 4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Οι ΦΤ έχουν μέση τιμή και τυπική απόκλιση 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(δηλαδή έχουν ένα εύρος τιμώ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 ΚΑΤΆ ΗΛΙΚ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νεογνά υψηλότερ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βρέφη μει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ην προεφηβική ηλικία ίδιες στα δύο φύ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ε την ενηλικίωση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υς άνδρε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ατοκρίτη 4-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οσφαιρίνης κατά 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ΠΑΘΟΦΥΣΙΟΛΟΓΙΑ ΑΝΑΙΜΙ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ναιμία οδηγεί σε υποξία των ιστώ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υποξία κινητοποιεί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τιρροπιστικούς μηχανισμούς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1. Αύξηση έκκρισης ερυθροποιητίνης (στους νεφρού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στο πλάσμα αυξάνει μέχρι και 1000 φορές, ενώ στο μυελό των οστών μέχρι 6-8 φορέ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2. Μείωση της συγγένειας αιμοσφαιρίνης-οξυγόνου (ευκολότερη απελευθέρωση οξυγό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3. Μείωση κατανάλωσης οξυγόνου (αύξηση αναερόβιας γλυκόλυσ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4. Ανακατανομή αιμάτω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5. Αύξηση καρδιακής παροχ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6. Αύξηση ρυθμού αναπνο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Η ΕΚΤΙΜΗ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ε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ταχεία εμφάνιση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ς (π.χ. λόγω μεγάλης απώλειας αίματος ή αιμόλυσης), εμφανίζεται κακουχία, ταχυκαρδία, αίσθημα παλμών, αίσθημα κόπωσης, μείωση δύναμης και αντοχής, δύσπνοια, κεφαλαλγία, ωχρότητα, κλ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ε βραδεία εμφάνιση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η συμπτωματολογία είναι ήπια λόγω αντιρροπιστικών μηχανισμώ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ΟΣ ΕΛΕΓΧΟΣ ΑΝΑΙΜ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ιματοκρίτης - Αιμοσφαιρίν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ρυθροκυτταρικοί δείκτ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Ολική σιδηροδεσμευτική ικανότητα 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IB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Φερριτίνη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δικτυοερυθροκυττάρ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λευκών – λευκοκυτταρικός τύπ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ιθμός και ποιότητα αιμοπεταλί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Μορφολογία ερυθρ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πίχρισμα βιοψίας μυελού οστ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ΑΞΙΝΟΜΗΣΗ ΑΝΑΙΜΙΩ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50760"/>
          <a:ext cx="8785440" cy="592776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ΑΤΗΓΟΡ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ΑΙΜ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αραγωγ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πε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γαλοβ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π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ναιμία χρονίας νόσ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καταστροφ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αιμολυτικές αναιμίε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Οξεία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Κληρονομική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υτοάνοση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νδοκυτταρική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ξωκυτταρική αιμολυτική (ενδο-αγγεια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εξω-αγγεια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πώλεια αί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θαιμορραγ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η αποδοτική ερυθροποί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βλαστικές αναιμ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ιμοσφαιρινοπάθει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- και β-Μεσογεια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Δρεπανοκυτταρ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4:29:58Z</dcterms:created>
  <dc:creator>TEI LARISA</dc:creator>
  <dc:description/>
  <dc:language>en-US</dc:language>
  <cp:lastModifiedBy>Χρήστος</cp:lastModifiedBy>
  <dcterms:modified xsi:type="dcterms:W3CDTF">2013-06-05T06:18:37Z</dcterms:modified>
  <cp:revision>25</cp:revision>
  <dc:subject/>
  <dc:title>Παρουσίαση του PowerPoint</dc:title>
</cp:coreProperties>
</file>